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8E5CF-A953-40A5-9816-1BA3BA67C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5962C-3483-4F61-A472-8D669575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58776-7AB7-435B-BE04-52C8878A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6CE81-6B35-403D-A88A-BFFD25DC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12492-E119-4BEB-901B-ADE91D0C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2472E-6625-41C4-A609-D4B3559B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09AD6-6DCA-4A68-8AFE-6AF10263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E3920-468C-4F93-8622-33FE865C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6BFD7-8390-496A-B02E-3EFBD0E0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DC99A-BE0B-49C8-8AF8-147DCE62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32877-8BF3-406B-A028-7DF1F1464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020BF-AD22-4187-915D-8DD94E5A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8963"/>
                </a:solidFill>
                <a:latin typeface="Times New Roman"/>
              </a:rPr>
              <a:t>Seat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01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 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GA Tech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6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4B23-ED04-4421-BD47-09B9D1AE3C9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0" y="1334880"/>
            <a:ext cx="4419720" cy="28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ahoma"/>
              </a:rPr>
              <a:t>Data Management Conformance (DMC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huck Eastma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GA Tech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90720" y="1295280"/>
            <a:ext cx="693396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9" name="datamanagement3" descr=""/>
          <p:cNvPicPr/>
          <p:nvPr/>
        </p:nvPicPr>
        <p:blipFill>
          <a:blip r:embed="rId2"/>
          <a:stretch/>
        </p:blipFill>
        <p:spPr>
          <a:xfrm>
            <a:off x="1143000" y="1479600"/>
            <a:ext cx="6324480" cy="30891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533520" y="-10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Each managed_data_item references one entity insta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3520" y="50277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very entity instance in a model has a item-refernece added, doubling size of f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447920" y="1295280"/>
            <a:ext cx="5638680" cy="403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95280" y="494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Managed Transac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43000" y="563796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Data_import, data_export_modification, data_export_cre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86600" y="1370520"/>
            <a:ext cx="20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Transaction history of actions per data item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338184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Who, what, when, wher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47" name="datamanagement2" descr=""/>
          <p:cNvPicPr/>
          <p:nvPr/>
        </p:nvPicPr>
        <p:blipFill>
          <a:blip r:embed="rId2"/>
          <a:stretch/>
        </p:blipFill>
        <p:spPr>
          <a:xfrm>
            <a:off x="1600200" y="1365120"/>
            <a:ext cx="546732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7748640" cy="10681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27324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ransactions Have Internal Sets of the Type of Action Take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10080" y="27421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xport Grou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23880" y="28184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Import Grou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209680" y="1981080"/>
            <a:ext cx="411480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" y="456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ach Data-Item Has a Transaction Histo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19320" y="464832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ach managed_data_item references every transaction it has ever participated in, during its DMC life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5" name="datamanagement1-5" descr=""/>
          <p:cNvPicPr/>
          <p:nvPr/>
        </p:nvPicPr>
        <p:blipFill>
          <a:blip r:embed="rId2"/>
          <a:stretch/>
        </p:blipFill>
        <p:spPr>
          <a:xfrm>
            <a:off x="2286000" y="2133720"/>
            <a:ext cx="38862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523880" y="1828800"/>
            <a:ext cx="6629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19320" y="3049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ransaction Provides a Record of Who, What, When and Whe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8" name="datamanagement1-3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626112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533520" y="45720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DMC Manager Applic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762120" y="2057400"/>
            <a:ext cx="1904760" cy="1219320"/>
            <a:chOff x="762120" y="2057400"/>
            <a:chExt cx="1904760" cy="1219320"/>
          </a:xfrm>
        </p:grpSpPr>
        <p:sp>
          <p:nvSpPr>
            <p:cNvPr id="361" name=""/>
            <p:cNvSpPr/>
            <p:nvPr/>
          </p:nvSpPr>
          <p:spPr>
            <a:xfrm>
              <a:off x="762120" y="2057400"/>
              <a:ext cx="1904760" cy="12193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42640" y="2210040"/>
              <a:ext cx="1142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Basic</a:t>
              </a: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Part-2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ile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2286000" y="2209680"/>
            <a:ext cx="3048120" cy="1218960"/>
            <a:chOff x="2286000" y="2209680"/>
            <a:chExt cx="3048120" cy="1218960"/>
          </a:xfrm>
        </p:grpSpPr>
        <p:sp>
          <p:nvSpPr>
            <p:cNvPr id="364" name=""/>
            <p:cNvSpPr/>
            <p:nvPr/>
          </p:nvSpPr>
          <p:spPr>
            <a:xfrm>
              <a:off x="2819520" y="2285640"/>
              <a:ext cx="2514600" cy="1008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MC 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Manager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286000" y="2209680"/>
              <a:ext cx="1067040" cy="12189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029200" y="2209680"/>
            <a:ext cx="2590920" cy="1295280"/>
            <a:chOff x="5029200" y="2209680"/>
            <a:chExt cx="2590920" cy="1295280"/>
          </a:xfrm>
        </p:grpSpPr>
        <p:grpSp>
          <p:nvGrpSpPr>
            <p:cNvPr id="367" name=""/>
            <p:cNvGrpSpPr/>
            <p:nvPr/>
          </p:nvGrpSpPr>
          <p:grpSpPr>
            <a:xfrm>
              <a:off x="5715000" y="2209680"/>
              <a:ext cx="1905120" cy="1218960"/>
              <a:chOff x="5715000" y="2209680"/>
              <a:chExt cx="1905120" cy="1218960"/>
            </a:xfrm>
          </p:grpSpPr>
          <p:sp>
            <p:nvSpPr>
              <p:cNvPr id="368" name=""/>
              <p:cNvSpPr/>
              <p:nvPr/>
            </p:nvSpPr>
            <p:spPr>
              <a:xfrm>
                <a:off x="5715000" y="2209680"/>
                <a:ext cx="1905120" cy="1218960"/>
              </a:xfrm>
              <a:custGeom>
                <a:avLst/>
                <a:gdLst/>
                <a:ahLst/>
                <a:rect l="l" t="t" r="r" b="b"/>
                <a:pathLst>
                  <a:path w="990" h="983">
                    <a:moveTo>
                      <a:pt x="31" y="1"/>
                    </a:moveTo>
                    <a:lnTo>
                      <a:pt x="748" y="0"/>
                    </a:lnTo>
                    <a:cubicBezTo>
                      <a:pt x="816" y="68"/>
                      <a:pt x="838" y="34"/>
                      <a:pt x="850" y="134"/>
                    </a:cubicBezTo>
                    <a:cubicBezTo>
                      <a:pt x="866" y="242"/>
                      <a:pt x="834" y="422"/>
                      <a:pt x="842" y="648"/>
                    </a:cubicBezTo>
                    <a:cubicBezTo>
                      <a:pt x="842" y="812"/>
                      <a:pt x="787" y="882"/>
                      <a:pt x="990" y="975"/>
                    </a:cubicBezTo>
                    <a:cubicBezTo>
                      <a:pt x="826" y="983"/>
                      <a:pt x="483" y="968"/>
                      <a:pt x="141" y="960"/>
                    </a:cubicBezTo>
                    <a:cubicBezTo>
                      <a:pt x="0" y="890"/>
                      <a:pt x="91" y="721"/>
                      <a:pt x="78" y="671"/>
                    </a:cubicBezTo>
                    <a:cubicBezTo>
                      <a:pt x="93" y="421"/>
                      <a:pt x="86" y="367"/>
                      <a:pt x="102" y="188"/>
                    </a:cubicBezTo>
                    <a:cubicBezTo>
                      <a:pt x="111" y="104"/>
                      <a:pt x="152" y="66"/>
                      <a:pt x="55" y="32"/>
                    </a:cubicBezTo>
                    <a:cubicBezTo>
                      <a:pt x="52" y="24"/>
                      <a:pt x="47" y="9"/>
                      <a:pt x="47" y="9"/>
                    </a:cubicBez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095880" y="2361960"/>
                <a:ext cx="114300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33"/>
                    </a:solidFill>
                    <a:latin typeface="Times New Roman"/>
                  </a:rPr>
                  <a:t>DMC 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Part-21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File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5029200" y="2285640"/>
              <a:ext cx="1067040" cy="12193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9144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aveats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4800600" y="914400"/>
            <a:ext cx="22860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2120" y="22860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Collaborative Development of a DMC Application Interfa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800600" y="914400"/>
          <a:ext cx="294012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914400"/>
                    <a:ext cx="29401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533520" y="2895480"/>
            <a:ext cx="38862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hared functionality across applications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re-link all input data with outpu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manage modification, creation, dele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Update transaction lo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14479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e minimal requirement of an application: track object ID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76520" y="1752480"/>
            <a:ext cx="556236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ovides unique ID to each Entity instance, allowing merging of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Identifies who, when, where for all creations, modifications and dele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ovides a transaction and version history for auditing of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3808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does DMC Consist of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838080" y="1676520"/>
            <a:ext cx="3810240" cy="2133360"/>
            <a:chOff x="838080" y="1676520"/>
            <a:chExt cx="3810240" cy="2133360"/>
          </a:xfrm>
        </p:grpSpPr>
        <p:sp>
          <p:nvSpPr>
            <p:cNvPr id="146" name=""/>
            <p:cNvSpPr/>
            <p:nvPr/>
          </p:nvSpPr>
          <p:spPr>
            <a:xfrm>
              <a:off x="2819520" y="1676520"/>
              <a:ext cx="1828800" cy="2133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838080" y="2133720"/>
              <a:ext cx="1571400" cy="1143000"/>
              <a:chOff x="838080" y="2133720"/>
              <a:chExt cx="1571400" cy="1143000"/>
            </a:xfrm>
          </p:grpSpPr>
          <p:sp>
            <p:nvSpPr>
              <p:cNvPr id="148" name=""/>
              <p:cNvSpPr/>
              <p:nvPr/>
            </p:nvSpPr>
            <p:spPr>
              <a:xfrm>
                <a:off x="838080" y="2133720"/>
                <a:ext cx="1571400" cy="1143000"/>
              </a:xfrm>
              <a:custGeom>
                <a:avLst/>
                <a:gdLst/>
                <a:ahLst/>
                <a:rect l="l" t="t" r="r" b="b"/>
                <a:pathLst>
                  <a:path w="990" h="983">
                    <a:moveTo>
                      <a:pt x="31" y="1"/>
                    </a:moveTo>
                    <a:lnTo>
                      <a:pt x="748" y="0"/>
                    </a:lnTo>
                    <a:cubicBezTo>
                      <a:pt x="816" y="68"/>
                      <a:pt x="838" y="34"/>
                      <a:pt x="850" y="134"/>
                    </a:cubicBezTo>
                    <a:cubicBezTo>
                      <a:pt x="866" y="242"/>
                      <a:pt x="834" y="422"/>
                      <a:pt x="842" y="648"/>
                    </a:cubicBezTo>
                    <a:cubicBezTo>
                      <a:pt x="842" y="812"/>
                      <a:pt x="787" y="882"/>
                      <a:pt x="990" y="975"/>
                    </a:cubicBezTo>
                    <a:cubicBezTo>
                      <a:pt x="826" y="983"/>
                      <a:pt x="483" y="968"/>
                      <a:pt x="141" y="960"/>
                    </a:cubicBezTo>
                    <a:cubicBezTo>
                      <a:pt x="0" y="890"/>
                      <a:pt x="91" y="721"/>
                      <a:pt x="78" y="671"/>
                    </a:cubicBezTo>
                    <a:cubicBezTo>
                      <a:pt x="93" y="421"/>
                      <a:pt x="86" y="367"/>
                      <a:pt x="102" y="188"/>
                    </a:cubicBezTo>
                    <a:cubicBezTo>
                      <a:pt x="111" y="104"/>
                      <a:pt x="152" y="66"/>
                      <a:pt x="55" y="32"/>
                    </a:cubicBezTo>
                    <a:cubicBezTo>
                      <a:pt x="52" y="24"/>
                      <a:pt x="47" y="9"/>
                      <a:pt x="47" y="9"/>
                    </a:cubicBez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110960" y="2362320"/>
                <a:ext cx="1066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33"/>
                    </a:solidFill>
                    <a:latin typeface="Times New Roman"/>
                  </a:rPr>
                  <a:t>Part21 file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2895480" y="1676520"/>
              <a:ext cx="1752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CIS/2 in-memory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full file dataset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000" y="2362320"/>
              <a:ext cx="457200" cy="5331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895480" y="1143000"/>
            <a:ext cx="4191120" cy="3507840"/>
            <a:chOff x="2895480" y="1143000"/>
            <a:chExt cx="4191120" cy="3507840"/>
          </a:xfrm>
        </p:grpSpPr>
        <p:sp>
          <p:nvSpPr>
            <p:cNvPr id="153" name=""/>
            <p:cNvSpPr/>
            <p:nvPr/>
          </p:nvSpPr>
          <p:spPr>
            <a:xfrm flipH="1" rot="7771200">
              <a:off x="4075920" y="1637640"/>
              <a:ext cx="1219320" cy="99036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8320" y="1143000"/>
              <a:ext cx="243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Data not read by application is lo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95480" y="2209680"/>
              <a:ext cx="3429000" cy="2441160"/>
              <a:chOff x="2895480" y="2209680"/>
              <a:chExt cx="3429000" cy="24411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95480" y="2209680"/>
                <a:ext cx="1676520" cy="609840"/>
              </a:xfrm>
              <a:prstGeom prst="rect">
                <a:avLst/>
              </a:prstGeom>
              <a:noFill/>
              <a:ln w="284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200400" y="2286000"/>
                <a:ext cx="990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Data not Read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24280" y="3048120"/>
                <a:ext cx="457200" cy="5331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257800" y="2362320"/>
                <a:ext cx="1066680" cy="228852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Native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data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structure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2895480" y="2895480"/>
                <a:ext cx="1752480" cy="838080"/>
                <a:chOff x="2895480" y="2895480"/>
                <a:chExt cx="1752480" cy="8380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2895480" y="3047760"/>
                  <a:ext cx="175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33"/>
                      </a:solidFill>
                      <a:latin typeface="Times New Roman"/>
                    </a:rPr>
                    <a:t>Extracted data</a:t>
                  </a: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895480" y="2895480"/>
                  <a:ext cx="1676160" cy="838080"/>
                </a:xfrm>
                <a:prstGeom prst="rect">
                  <a:avLst/>
                </a:prstGeom>
                <a:noFill/>
                <a:ln w="1908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3" name=""/>
          <p:cNvGrpSpPr/>
          <p:nvPr/>
        </p:nvGrpSpPr>
        <p:grpSpPr>
          <a:xfrm>
            <a:off x="685800" y="2438280"/>
            <a:ext cx="7696080" cy="3353040"/>
            <a:chOff x="685800" y="2438280"/>
            <a:chExt cx="7696080" cy="3353040"/>
          </a:xfrm>
        </p:grpSpPr>
        <p:grpSp>
          <p:nvGrpSpPr>
            <p:cNvPr id="164" name=""/>
            <p:cNvGrpSpPr/>
            <p:nvPr/>
          </p:nvGrpSpPr>
          <p:grpSpPr>
            <a:xfrm>
              <a:off x="6705720" y="2438280"/>
              <a:ext cx="1676160" cy="2210040"/>
              <a:chOff x="6705720" y="2438280"/>
              <a:chExt cx="1676160" cy="2210040"/>
            </a:xfrm>
          </p:grpSpPr>
          <p:sp>
            <p:nvSpPr>
              <p:cNvPr id="165" name=""/>
              <p:cNvSpPr/>
              <p:nvPr/>
            </p:nvSpPr>
            <p:spPr>
              <a:xfrm>
                <a:off x="6858000" y="2438280"/>
                <a:ext cx="1447920" cy="221004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705720" y="3124080"/>
                <a:ext cx="16761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85800" y="4267080"/>
              <a:ext cx="1905120" cy="1143000"/>
              <a:chOff x="685800" y="4267080"/>
              <a:chExt cx="1905120" cy="1143000"/>
            </a:xfrm>
          </p:grpSpPr>
          <p:sp>
            <p:nvSpPr>
              <p:cNvPr id="168" name=""/>
              <p:cNvSpPr/>
              <p:nvPr/>
            </p:nvSpPr>
            <p:spPr>
              <a:xfrm flipH="1">
                <a:off x="2133720" y="4495680"/>
                <a:ext cx="457200" cy="53352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85800" y="4267080"/>
                <a:ext cx="1571400" cy="1143000"/>
                <a:chOff x="685800" y="4267080"/>
                <a:chExt cx="1571400" cy="114300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685800" y="4267080"/>
                  <a:ext cx="1571400" cy="114300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958680" y="4495680"/>
                  <a:ext cx="10666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2743200" y="4038480"/>
              <a:ext cx="1905120" cy="1752840"/>
              <a:chOff x="2743200" y="4038480"/>
              <a:chExt cx="1905120" cy="1752840"/>
            </a:xfrm>
          </p:grpSpPr>
          <p:sp>
            <p:nvSpPr>
              <p:cNvPr id="173" name=""/>
              <p:cNvSpPr/>
              <p:nvPr/>
            </p:nvSpPr>
            <p:spPr>
              <a:xfrm>
                <a:off x="2743200" y="4038480"/>
                <a:ext cx="1905120" cy="1752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819520" y="4038480"/>
                <a:ext cx="1752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895480" y="4724280"/>
                <a:ext cx="15242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a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895480" y="4724280"/>
                <a:ext cx="1676520" cy="99072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 flipH="1">
              <a:off x="4648320" y="3809880"/>
              <a:ext cx="45720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48520" y="2666880"/>
              <a:ext cx="838080" cy="167652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5257800" y="3809880"/>
              <a:ext cx="1066680" cy="838440"/>
              <a:chOff x="5257800" y="3809880"/>
              <a:chExt cx="1066680" cy="838440"/>
            </a:xfrm>
          </p:grpSpPr>
          <p:sp>
            <p:nvSpPr>
              <p:cNvPr id="180" name=""/>
              <p:cNvSpPr/>
              <p:nvPr/>
            </p:nvSpPr>
            <p:spPr>
              <a:xfrm>
                <a:off x="5334120" y="3886200"/>
                <a:ext cx="914400" cy="76212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57800" y="3809880"/>
                <a:ext cx="10666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Times New Roman"/>
                  </a:rPr>
                  <a:t>Application Generated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Times New Roman"/>
                  </a:rPr>
                  <a:t>Data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48320" y="106668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33"/>
                </a:solidFill>
                <a:uFillTx/>
                <a:latin typeface="Times New Roman"/>
              </a:rPr>
              <a:t>Dropped Data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: Physical members, connections, non-structural dat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981080" y="1469880"/>
            <a:ext cx="4648320" cy="2022480"/>
            <a:chOff x="1981080" y="1469880"/>
            <a:chExt cx="4648320" cy="2022480"/>
          </a:xfrm>
        </p:grpSpPr>
        <p:grpSp>
          <p:nvGrpSpPr>
            <p:cNvPr id="185" name=""/>
            <p:cNvGrpSpPr/>
            <p:nvPr/>
          </p:nvGrpSpPr>
          <p:grpSpPr>
            <a:xfrm>
              <a:off x="2057400" y="1676520"/>
              <a:ext cx="2300400" cy="914400"/>
              <a:chOff x="2057400" y="1676520"/>
              <a:chExt cx="2300400" cy="914400"/>
            </a:xfrm>
          </p:grpSpPr>
          <p:sp>
            <p:nvSpPr>
              <p:cNvPr id="186" name=""/>
              <p:cNvSpPr/>
              <p:nvPr/>
            </p:nvSpPr>
            <p:spPr>
              <a:xfrm>
                <a:off x="3253680" y="1676520"/>
                <a:ext cx="1104120" cy="9144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2057400" y="1872360"/>
                <a:ext cx="948960" cy="494280"/>
                <a:chOff x="2057400" y="1872360"/>
                <a:chExt cx="948960" cy="4942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2057400" y="1872360"/>
                  <a:ext cx="948960" cy="48996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221920" y="196812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>
                <a:off x="3298680" y="1676520"/>
                <a:ext cx="105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931480" y="1970280"/>
                <a:ext cx="275760" cy="228240"/>
              </a:xfrm>
              <a:prstGeom prst="rightArrow">
                <a:avLst>
                  <a:gd name="adj1" fmla="val 50000"/>
                  <a:gd name="adj2" fmla="val 30205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 flipH="1" rot="7771200">
              <a:off x="4136040" y="1562400"/>
              <a:ext cx="522360" cy="59688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16320" y="1893960"/>
              <a:ext cx="1011240" cy="261720"/>
            </a:xfrm>
            <a:prstGeom prst="rect">
              <a:avLst/>
            </a:prstGeom>
            <a:noFill/>
            <a:ln w="2844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5320" y="1828800"/>
              <a:ext cx="76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33"/>
                  </a:solidFill>
                  <a:latin typeface="Times New Roman"/>
                </a:rPr>
                <a:t>Data not Re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19720" y="2252520"/>
              <a:ext cx="276120" cy="228600"/>
            </a:xfrm>
            <a:prstGeom prst="rightArrow">
              <a:avLst>
                <a:gd name="adj1" fmla="val 50000"/>
                <a:gd name="adj2" fmla="val 30197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95840" y="1959120"/>
              <a:ext cx="646200" cy="1312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Nativ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dat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structur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3316320" y="2187720"/>
              <a:ext cx="1057320" cy="360360"/>
              <a:chOff x="3316320" y="2187720"/>
              <a:chExt cx="1057320" cy="360360"/>
            </a:xfrm>
          </p:grpSpPr>
          <p:sp>
            <p:nvSpPr>
              <p:cNvPr id="198" name=""/>
              <p:cNvSpPr/>
              <p:nvPr/>
            </p:nvSpPr>
            <p:spPr>
              <a:xfrm>
                <a:off x="3316320" y="2252520"/>
                <a:ext cx="1057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Extracted dat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316320" y="2187720"/>
                <a:ext cx="1011960" cy="36036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5618160" y="1992240"/>
              <a:ext cx="1011240" cy="947880"/>
              <a:chOff x="5618160" y="1992240"/>
              <a:chExt cx="1011240" cy="947880"/>
            </a:xfrm>
          </p:grpSpPr>
          <p:sp>
            <p:nvSpPr>
              <p:cNvPr id="201" name=""/>
              <p:cNvSpPr/>
              <p:nvPr/>
            </p:nvSpPr>
            <p:spPr>
              <a:xfrm>
                <a:off x="5709240" y="1992240"/>
                <a:ext cx="874080" cy="94788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618160" y="2286360"/>
                <a:ext cx="10112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1981080" y="2776680"/>
              <a:ext cx="1150560" cy="496800"/>
              <a:chOff x="1981080" y="2776680"/>
              <a:chExt cx="1150560" cy="496800"/>
            </a:xfrm>
          </p:grpSpPr>
          <p:sp>
            <p:nvSpPr>
              <p:cNvPr id="204" name=""/>
              <p:cNvSpPr/>
              <p:nvPr/>
            </p:nvSpPr>
            <p:spPr>
              <a:xfrm flipH="1">
                <a:off x="2855160" y="2874240"/>
                <a:ext cx="276120" cy="228240"/>
              </a:xfrm>
              <a:prstGeom prst="rightArrow">
                <a:avLst>
                  <a:gd name="adj1" fmla="val 50000"/>
                  <a:gd name="adj2" fmla="val 30244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1981080" y="2776680"/>
                <a:ext cx="949320" cy="496800"/>
                <a:chOff x="1981080" y="2776680"/>
                <a:chExt cx="949320" cy="4968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1981080" y="2776680"/>
                  <a:ext cx="949320" cy="48888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145600" y="287496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3224160" y="2678040"/>
              <a:ext cx="1149480" cy="814320"/>
              <a:chOff x="3224160" y="2678040"/>
              <a:chExt cx="1149480" cy="814320"/>
            </a:xfrm>
          </p:grpSpPr>
          <p:sp>
            <p:nvSpPr>
              <p:cNvPr id="209" name=""/>
              <p:cNvSpPr/>
              <p:nvPr/>
            </p:nvSpPr>
            <p:spPr>
              <a:xfrm>
                <a:off x="3224160" y="2678040"/>
                <a:ext cx="1149480" cy="751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271680" y="2678040"/>
                <a:ext cx="1053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315960" y="2971800"/>
                <a:ext cx="91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</a:t>
                </a: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315960" y="2971800"/>
                <a:ext cx="1011600" cy="42480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 flipH="1">
              <a:off x="4372920" y="2579760"/>
              <a:ext cx="276120" cy="228600"/>
            </a:xfrm>
            <a:prstGeom prst="rightArrow">
              <a:avLst>
                <a:gd name="adj1" fmla="val 50000"/>
                <a:gd name="adj2" fmla="val 30197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40240" y="2090880"/>
              <a:ext cx="506520" cy="71748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80880" y="1219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Example 1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esign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29400" y="20574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Appl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25909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Resul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38098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33"/>
                </a:solidFill>
                <a:uFillTx/>
                <a:latin typeface="Times New Roman"/>
              </a:rPr>
              <a:t>Dropped Data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: loads, reactions, elements &amp; nod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981080" y="4060800"/>
            <a:ext cx="4648320" cy="2022120"/>
            <a:chOff x="1981080" y="4060800"/>
            <a:chExt cx="4648320" cy="2022120"/>
          </a:xfrm>
        </p:grpSpPr>
        <p:grpSp>
          <p:nvGrpSpPr>
            <p:cNvPr id="221" name=""/>
            <p:cNvGrpSpPr/>
            <p:nvPr/>
          </p:nvGrpSpPr>
          <p:grpSpPr>
            <a:xfrm>
              <a:off x="2057400" y="4267080"/>
              <a:ext cx="2300400" cy="914040"/>
              <a:chOff x="2057400" y="4267080"/>
              <a:chExt cx="2300400" cy="914040"/>
            </a:xfrm>
          </p:grpSpPr>
          <p:sp>
            <p:nvSpPr>
              <p:cNvPr id="222" name=""/>
              <p:cNvSpPr/>
              <p:nvPr/>
            </p:nvSpPr>
            <p:spPr>
              <a:xfrm>
                <a:off x="3253680" y="4267080"/>
                <a:ext cx="1104120" cy="914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2057400" y="4462920"/>
                <a:ext cx="948960" cy="494280"/>
                <a:chOff x="2057400" y="4462920"/>
                <a:chExt cx="948960" cy="4942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2057400" y="4462920"/>
                  <a:ext cx="948960" cy="48960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221920" y="455868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3298680" y="4267080"/>
                <a:ext cx="105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931480" y="4560840"/>
                <a:ext cx="275760" cy="228240"/>
              </a:xfrm>
              <a:prstGeom prst="rightArrow">
                <a:avLst>
                  <a:gd name="adj1" fmla="val 50000"/>
                  <a:gd name="adj2" fmla="val 30205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 flipH="1" rot="7771200">
              <a:off x="4136040" y="4153320"/>
              <a:ext cx="522360" cy="59688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16320" y="4484520"/>
              <a:ext cx="1011240" cy="261360"/>
            </a:xfrm>
            <a:prstGeom prst="rect">
              <a:avLst/>
            </a:prstGeom>
            <a:noFill/>
            <a:ln w="2844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05320" y="4419360"/>
              <a:ext cx="76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33"/>
                  </a:solidFill>
                  <a:latin typeface="Times New Roman"/>
                </a:rPr>
                <a:t>Data not Re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19720" y="4843080"/>
              <a:ext cx="276120" cy="228240"/>
            </a:xfrm>
            <a:prstGeom prst="rightArrow">
              <a:avLst>
                <a:gd name="adj1" fmla="val 50000"/>
                <a:gd name="adj2" fmla="val 30244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95840" y="4549680"/>
              <a:ext cx="646200" cy="1312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Nativ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dat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structur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316320" y="4778280"/>
              <a:ext cx="1057320" cy="360000"/>
              <a:chOff x="3316320" y="4778280"/>
              <a:chExt cx="1057320" cy="360000"/>
            </a:xfrm>
          </p:grpSpPr>
          <p:sp>
            <p:nvSpPr>
              <p:cNvPr id="234" name=""/>
              <p:cNvSpPr/>
              <p:nvPr/>
            </p:nvSpPr>
            <p:spPr>
              <a:xfrm>
                <a:off x="3316320" y="4843080"/>
                <a:ext cx="1057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Extracted dat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316320" y="4778280"/>
                <a:ext cx="1011960" cy="36000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5618160" y="4582800"/>
              <a:ext cx="1011240" cy="947520"/>
              <a:chOff x="5618160" y="4582800"/>
              <a:chExt cx="1011240" cy="947520"/>
            </a:xfrm>
          </p:grpSpPr>
          <p:sp>
            <p:nvSpPr>
              <p:cNvPr id="237" name=""/>
              <p:cNvSpPr/>
              <p:nvPr/>
            </p:nvSpPr>
            <p:spPr>
              <a:xfrm>
                <a:off x="5709240" y="4582800"/>
                <a:ext cx="874080" cy="94752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618160" y="4876560"/>
                <a:ext cx="10112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981080" y="5367240"/>
              <a:ext cx="1150560" cy="496800"/>
              <a:chOff x="1981080" y="5367240"/>
              <a:chExt cx="1150560" cy="496800"/>
            </a:xfrm>
          </p:grpSpPr>
          <p:sp>
            <p:nvSpPr>
              <p:cNvPr id="240" name=""/>
              <p:cNvSpPr/>
              <p:nvPr/>
            </p:nvSpPr>
            <p:spPr>
              <a:xfrm flipH="1">
                <a:off x="2855160" y="5464800"/>
                <a:ext cx="276120" cy="227880"/>
              </a:xfrm>
              <a:prstGeom prst="rightArrow">
                <a:avLst>
                  <a:gd name="adj1" fmla="val 50000"/>
                  <a:gd name="adj2" fmla="val 30292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1981080" y="5367240"/>
                <a:ext cx="949320" cy="496800"/>
                <a:chOff x="1981080" y="5367240"/>
                <a:chExt cx="949320" cy="49680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1981080" y="5367240"/>
                  <a:ext cx="949320" cy="48852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145600" y="546552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4" name=""/>
            <p:cNvGrpSpPr/>
            <p:nvPr/>
          </p:nvGrpSpPr>
          <p:grpSpPr>
            <a:xfrm>
              <a:off x="3224160" y="5268600"/>
              <a:ext cx="1149480" cy="814320"/>
              <a:chOff x="3224160" y="5268600"/>
              <a:chExt cx="1149480" cy="814320"/>
            </a:xfrm>
          </p:grpSpPr>
          <p:sp>
            <p:nvSpPr>
              <p:cNvPr id="245" name=""/>
              <p:cNvSpPr/>
              <p:nvPr/>
            </p:nvSpPr>
            <p:spPr>
              <a:xfrm>
                <a:off x="3224160" y="5268600"/>
                <a:ext cx="1149480" cy="751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271680" y="5268600"/>
                <a:ext cx="1053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315960" y="5562360"/>
                <a:ext cx="91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</a:t>
                </a: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315960" y="5562360"/>
                <a:ext cx="1011600" cy="42444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H="1">
              <a:off x="4372920" y="5170320"/>
              <a:ext cx="276120" cy="228240"/>
            </a:xfrm>
            <a:prstGeom prst="rightArrow">
              <a:avLst>
                <a:gd name="adj1" fmla="val 50000"/>
                <a:gd name="adj2" fmla="val 30244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40240" y="4681440"/>
              <a:ext cx="506520" cy="71712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80880" y="3809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Example 2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29400" y="46483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esign Appl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1814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Resul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129528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Only Very Limited Workflows are Possibl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57200" y="2209680"/>
            <a:ext cx="8077320" cy="703800"/>
            <a:chOff x="457200" y="2209680"/>
            <a:chExt cx="8077320" cy="703800"/>
          </a:xfrm>
        </p:grpSpPr>
        <p:sp>
          <p:nvSpPr>
            <p:cNvPr id="258" name=""/>
            <p:cNvSpPr/>
            <p:nvPr/>
          </p:nvSpPr>
          <p:spPr>
            <a:xfrm>
              <a:off x="457200" y="220968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nalysis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38280" y="220968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esig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95680" y="220968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Shop drawing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05720" y="220968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abr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33720" y="228600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14800" y="228600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24480" y="22860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295280" y="3429000"/>
            <a:ext cx="1654200" cy="1694520"/>
            <a:chOff x="1295280" y="3429000"/>
            <a:chExt cx="1654200" cy="1694520"/>
          </a:xfrm>
        </p:grpSpPr>
        <p:sp>
          <p:nvSpPr>
            <p:cNvPr id="266" name=""/>
            <p:cNvSpPr/>
            <p:nvPr/>
          </p:nvSpPr>
          <p:spPr>
            <a:xfrm>
              <a:off x="1295280" y="342900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nalysis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5280" y="441972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esig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6134600">
              <a:off x="1676160" y="403812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5465400">
              <a:off x="2285640" y="403848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590920" y="3733920"/>
            <a:ext cx="2590560" cy="1389600"/>
            <a:chOff x="2590920" y="3733920"/>
            <a:chExt cx="2590560" cy="1389600"/>
          </a:xfrm>
        </p:grpSpPr>
        <p:sp>
          <p:nvSpPr>
            <p:cNvPr id="271" name=""/>
            <p:cNvSpPr/>
            <p:nvPr/>
          </p:nvSpPr>
          <p:spPr>
            <a:xfrm>
              <a:off x="3352680" y="441972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Shop drawing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71800" y="449568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90920" y="3733920"/>
              <a:ext cx="1066680" cy="83808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5503751"/>
                  <a:lnTo>
                    <a:pt x="10474" y="5"/>
                  </a:lnTo>
                  <a:arcTo wR="10800" hR="10800" stAng="-5503751" swAng="5503751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181120" y="4343400"/>
            <a:ext cx="2210400" cy="990720"/>
            <a:chOff x="5181120" y="4343400"/>
            <a:chExt cx="2210400" cy="990720"/>
          </a:xfrm>
        </p:grpSpPr>
        <p:sp>
          <p:nvSpPr>
            <p:cNvPr id="275" name=""/>
            <p:cNvSpPr/>
            <p:nvPr/>
          </p:nvSpPr>
          <p:spPr>
            <a:xfrm>
              <a:off x="5562720" y="441972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abr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81480" y="48006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180760" y="43434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133720" y="44956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NOT SUPPORTED!!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43000" y="53341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aveats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3200400" y="3429000"/>
            <a:ext cx="3886200" cy="2514600"/>
            <a:chOff x="3200400" y="3429000"/>
            <a:chExt cx="3886200" cy="2514600"/>
          </a:xfrm>
        </p:grpSpPr>
        <p:sp>
          <p:nvSpPr>
            <p:cNvPr id="281" name=""/>
            <p:cNvSpPr/>
            <p:nvPr/>
          </p:nvSpPr>
          <p:spPr>
            <a:xfrm>
              <a:off x="3200400" y="3429000"/>
              <a:ext cx="3886200" cy="2514600"/>
            </a:xfrm>
            <a:custGeom>
              <a:avLst/>
              <a:gdLst/>
              <a:ahLst/>
              <a:rect l="l" t="t" r="r" b="b"/>
              <a:pathLst>
                <a:path w="2448" h="1584">
                  <a:moveTo>
                    <a:pt x="48" y="0"/>
                  </a:moveTo>
                  <a:lnTo>
                    <a:pt x="1296" y="0"/>
                  </a:lnTo>
                  <a:lnTo>
                    <a:pt x="2448" y="768"/>
                  </a:lnTo>
                  <a:lnTo>
                    <a:pt x="2448" y="1584"/>
                  </a:lnTo>
                  <a:lnTo>
                    <a:pt x="1104" y="1584"/>
                  </a:lnTo>
                  <a:lnTo>
                    <a:pt x="816" y="864"/>
                  </a:lnTo>
                  <a:lnTo>
                    <a:pt x="0" y="86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d5efd5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876920" y="3962520"/>
              <a:ext cx="1143000" cy="459720"/>
            </a:xfrm>
            <a:prstGeom prst="rect">
              <a:avLst/>
            </a:prstGeom>
            <a:solidFill>
              <a:srgbClr val="d5e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ahoma"/>
                </a:rPr>
                <a:t>merg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2120" y="14479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Merging of multiple files into a single o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81080" y="2362320"/>
            <a:ext cx="24386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05120" y="4952880"/>
            <a:ext cx="251460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6134600">
            <a:off x="2285640" y="44953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 rot="5465400">
            <a:off x="3809880" y="44956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676520" y="3352680"/>
            <a:ext cx="1600200" cy="1219320"/>
            <a:chOff x="1676520" y="3352680"/>
            <a:chExt cx="1600200" cy="1219320"/>
          </a:xfrm>
        </p:grpSpPr>
        <p:sp>
          <p:nvSpPr>
            <p:cNvPr id="290" name=""/>
            <p:cNvSpPr/>
            <p:nvPr/>
          </p:nvSpPr>
          <p:spPr>
            <a:xfrm>
              <a:off x="1676520" y="3352680"/>
              <a:ext cx="1600200" cy="12193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05120" y="3352680"/>
              <a:ext cx="106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Analysis model, layout &amp; load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352680" y="3581280"/>
            <a:ext cx="1555560" cy="990720"/>
            <a:chOff x="3352680" y="3581280"/>
            <a:chExt cx="1555560" cy="990720"/>
          </a:xfrm>
        </p:grpSpPr>
        <p:sp>
          <p:nvSpPr>
            <p:cNvPr id="293" name=""/>
            <p:cNvSpPr/>
            <p:nvPr/>
          </p:nvSpPr>
          <p:spPr>
            <a:xfrm>
              <a:off x="3352680" y="3581280"/>
              <a:ext cx="1523880" cy="9907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81280" y="3581280"/>
              <a:ext cx="1326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Analysis model w/ reaction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5029200" y="4648320"/>
            <a:ext cx="1752480" cy="121896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1480" y="4648320"/>
            <a:ext cx="13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134600">
            <a:off x="2361960" y="28951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 rot="5465400">
            <a:off x="3733560" y="3047040"/>
            <a:ext cx="53316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43400" y="5029200"/>
            <a:ext cx="838080" cy="609480"/>
          </a:xfrm>
          <a:prstGeom prst="leftRightArrow">
            <a:avLst>
              <a:gd name="adj1" fmla="val 50000"/>
              <a:gd name="adj2" fmla="val 27374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24280" y="2514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Merging on in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429000" y="3429000"/>
            <a:ext cx="3048120" cy="144792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19520" y="3124080"/>
            <a:ext cx="106668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12952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Running an application on a dataset without any loss of unread dat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81080" y="2362320"/>
            <a:ext cx="24386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28800" y="5181480"/>
            <a:ext cx="251460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6134600">
            <a:off x="2209680" y="47242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 rot="5465400">
            <a:off x="3809880" y="47242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3352680"/>
            <a:ext cx="2286000" cy="144792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95280" y="3352680"/>
            <a:ext cx="2100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 &amp; analysis model, layout &amp; load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16134600">
            <a:off x="2361960" y="28951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33920" y="3429000"/>
            <a:ext cx="236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 &amp; analysis model, layout &amp; loads </a:t>
            </a:r>
            <a:r>
              <a:rPr b="0" lang="en-US" sz="1800" spc="-1" strike="noStrike" u="sng">
                <a:solidFill>
                  <a:srgbClr val="333333"/>
                </a:solidFill>
                <a:uFillTx/>
                <a:latin typeface="Times New Roman"/>
              </a:rPr>
              <a:t>w/ reactions added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 rot="5465400">
            <a:off x="3771720" y="3009960"/>
            <a:ext cx="45720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52880" y="259092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Merging on out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4114800" y="4876920"/>
            <a:ext cx="1905120" cy="1218960"/>
            <a:chOff x="4114800" y="4876920"/>
            <a:chExt cx="1905120" cy="1218960"/>
          </a:xfrm>
        </p:grpSpPr>
        <p:sp>
          <p:nvSpPr>
            <p:cNvPr id="316" name=""/>
            <p:cNvSpPr/>
            <p:nvPr/>
          </p:nvSpPr>
          <p:spPr>
            <a:xfrm>
              <a:off x="4114800" y="4876920"/>
              <a:ext cx="1905120" cy="121896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19720" y="4876920"/>
              <a:ext cx="1447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Manuf. Model w/ connections &amp; feature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Incremental update of datase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95680" y="3809880"/>
            <a:ext cx="106704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4114800"/>
            <a:ext cx="26672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hop drawing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3886200"/>
            <a:ext cx="106668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2720" y="4114800"/>
            <a:ext cx="266688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abrication management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733920" y="2133720"/>
            <a:ext cx="2245680" cy="2879280"/>
            <a:chOff x="3733920" y="2133720"/>
            <a:chExt cx="2245680" cy="2879280"/>
          </a:xfrm>
        </p:grpSpPr>
        <p:sp>
          <p:nvSpPr>
            <p:cNvPr id="325" name=""/>
            <p:cNvSpPr/>
            <p:nvPr/>
          </p:nvSpPr>
          <p:spPr>
            <a:xfrm rot="969600">
              <a:off x="4038480" y="3200040"/>
              <a:ext cx="1752840" cy="1600200"/>
            </a:xfrm>
            <a:custGeom>
              <a:avLst/>
              <a:gdLst>
                <a:gd name="textAreaLeft" fmla="*/ 0 w 1752840"/>
                <a:gd name="textAreaRight" fmla="*/ 1753200 w 175284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667" y="15076"/>
                  </a:moveTo>
                  <a:arcTo wR="-7477" hR="-7477" stAng="8706805" swAng="-8792921"/>
                  <a:lnTo>
                    <a:pt x="3" y="11071"/>
                  </a:lnTo>
                  <a:arcTo wR="10800" hR="10800" stAng="10713884" swAng="8792921"/>
                  <a:lnTo>
                    <a:pt x="21874" y="3079"/>
                  </a:lnTo>
                  <a:lnTo>
                    <a:pt x="20791" y="9151"/>
                  </a:lnTo>
                  <a:lnTo>
                    <a:pt x="14719" y="8068"/>
                  </a:lnTo>
                  <a:close/>
                </a:path>
              </a:pathLst>
            </a:cu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33920" y="2133720"/>
              <a:ext cx="2209680" cy="121896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62520" y="2133720"/>
              <a:ext cx="1904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Manuf. Model update: changed connections &amp; feature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228600" y="518148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Also merging on in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90720" y="1371600"/>
            <a:ext cx="70866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1143000" y="1523880"/>
            <a:ext cx="6708600" cy="29876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733920" y="57139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Application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authorizing organiz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257800" y="472320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nstallation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SW company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62120" y="50281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nstance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local install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6151200">
            <a:off x="2171520" y="453384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3262800">
            <a:off x="6705720" y="4038480"/>
            <a:ext cx="1066680" cy="457200"/>
          </a:xfrm>
          <a:prstGeom prst="leftArrow">
            <a:avLst>
              <a:gd name="adj1" fmla="val 50000"/>
              <a:gd name="adj2" fmla="val 58327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6921600">
            <a:off x="4255560" y="4903560"/>
            <a:ext cx="1295640" cy="457200"/>
          </a:xfrm>
          <a:prstGeom prst="leftArrow">
            <a:avLst>
              <a:gd name="adj1" fmla="val 50000"/>
              <a:gd name="adj2" fmla="val 70846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209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Unique ID is three integers, assigned by different group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5:12:53Z</dcterms:created>
  <dc:creator>Eastman</dc:creator>
  <dc:description/>
  <dc:language>en-US</dc:language>
  <cp:lastModifiedBy>fwang</cp:lastModifiedBy>
  <dcterms:modified xsi:type="dcterms:W3CDTF">2002-05-06T15:45:39Z</dcterms:modified>
  <cp:revision>9</cp:revision>
  <dc:subject/>
  <dc:title>No Slide Title</dc:title>
</cp:coreProperties>
</file>